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C6EF-F4EA-45FC-BB5A-F9C2192F9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C6D5-65D5-42A4-83E1-3ED62A7B5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eachmelife.wordpress.com/2012/04/05/teach-me-bala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spired by Sohai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Powerpoint yesterda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8429-3B78-4856-B0C2-9438B3BED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freewebs.com/sandra02n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F503-0E2E-4D88-AAE9-AA69CB35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ngrimayne.com/econ/AllocatingRationing/PriceAndFeedback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8210-E9CC-4450-BC64-93FA6B17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espmc1.vub.ac.be/feedback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C0A9-1B58-4A2C-9534-16A8B950B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files.fieldofscience.com/2011_01_01_archiv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1582-A7D8-4CD3-90EE-99F94C6D0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knowledge/library/homeostatic-processes-for-thermoregulation-235920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lot of energy to maintain constant internal body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41DA-216F-4124-9BAF-0EA4DB991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A746-641B-423A-A1EB-C10B2773D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79C8-15FE-4EC9-91C7-B75F76FC2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AA6D-45F0-4941-8B22-BC1CB9D06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7F77-E5B8-46F5-A4F2-8177DDF0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liesyoungwomenbelieve.com/index.php?id=354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A166-6C89-4671-872D-38527E03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salvarez1.edublogs.org/category/uncategorized/page/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dy systems interact to maintain homeosta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rvous system: receives sensory information from environment, and transmits sig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out the body to regulate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retory system: rids body of waste and maintains clean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docrine system: regulates levels of essential hormo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latory system: carries hormones &amp; other chemicals, and distributes heat throughou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mune system: protects body from and fights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gestive system: liver controls amino acid levels, detoxifies harmful substances, manufactures blood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egumentary system: important for maintaining constant body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DE3A-9389-45B0-8F3B-3C748C55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revisescience.co.uk/2010/schools/ilford/abhomeostasis.asp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1D50-7965-4BD4-864F-D3944A48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.revisescience.co.uk/2010/schools/ilford/abhomeostasis.asp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F1C1-4311-4816-9B2A-8289D640F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schoolworkhelper.net/2010/07/thermoregulation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D2D6-D673-47F2-9F05-B7914F75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0FB-F61B-4C42-A2A9-5A95AD5A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015-4B86-4E47-9B37-003B6908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256-96BF-4CE6-9AA8-B6F69D7E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DBD-D3E4-4078-8517-94CCA42E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BAD-A230-4955-95CB-D9EBCBF9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2DF-8198-40F9-81C4-A256B970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1A7-70B7-46F6-86C1-07592927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3A3-E4DE-4616-953D-46CADCE9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62C-A40B-42AA-BA6E-B4754087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927-34D4-499B-9E68-F329C7FD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DF3-625D-40A8-BB63-019C2462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580-D973-496D-8BE2-E414B653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2B8-3D1E-4182-9417-14439F336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Feedback_loop"/>
          <p:cNvPicPr/>
          <p:nvPr/>
        </p:nvPicPr>
        <p:blipFill>
          <a:blip r:embed="rId1"/>
          <a:stretch/>
        </p:blipFill>
        <p:spPr>
          <a:xfrm>
            <a:off x="1665360" y="609480"/>
            <a:ext cx="5811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integrator (coordinating centre)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detect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than 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Figure6"/>
          <p:cNvPicPr/>
          <p:nvPr/>
        </p:nvPicPr>
        <p:blipFill>
          <a:blip r:embed="rId1"/>
          <a:stretch/>
        </p:blipFill>
        <p:spPr>
          <a:xfrm>
            <a:off x="4648320" y="2125800"/>
            <a:ext cx="380988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MacroscFig54"/>
          <p:cNvPicPr/>
          <p:nvPr/>
        </p:nvPicPr>
        <p:blipFill>
          <a:blip r:embed="rId1"/>
          <a:stretch/>
        </p:blipFill>
        <p:spPr>
          <a:xfrm>
            <a:off x="685800" y="2278080"/>
            <a:ext cx="77724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omeostasis-pregnancy-positive-feedback"/>
          <p:cNvPicPr/>
          <p:nvPr/>
        </p:nvPicPr>
        <p:blipFill>
          <a:blip r:embed="rId1"/>
          <a:stretch/>
        </p:blipFill>
        <p:spPr>
          <a:xfrm>
            <a:off x="685800" y="2084400"/>
            <a:ext cx="77724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therm vs. Poikiloth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akin_1_2"/>
          <p:cNvPicPr/>
          <p:nvPr/>
        </p:nvPicPr>
        <p:blipFill>
          <a:blip r:embed="rId1"/>
          <a:srcRect l="-39459" t="0" r="-3945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toth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ternal environment to regulate 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invertebrates, fish, amphibians, rep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al &amp; some physiological mechanisms allow ectotherms to remain somewhat home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ternal mechanisms to regulate body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birds, mam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nergy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rp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ber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behavioural mechanisms that help endotherms to survive in harsh cl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aining an Intern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 - 9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systems are constantly adjusting to changes in the external environment to maintain a constant internal environment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  37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glucose level:  0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H:  7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 levels, blood pressure &amp; flow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uman body"/>
          <p:cNvPicPr/>
          <p:nvPr/>
        </p:nvPicPr>
        <p:blipFill>
          <a:blip r:embed="rId1"/>
          <a:stretch/>
        </p:blipFill>
        <p:spPr>
          <a:xfrm>
            <a:off x="1038240" y="1981080"/>
            <a:ext cx="310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Body_Systems1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tic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40x9homeostasis-control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ion of body temperature by negative feedback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important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oth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40x9homeostasis-control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thermoregulation-feedback"/>
          <p:cNvPicPr/>
          <p:nvPr/>
        </p:nvPicPr>
        <p:blipFill>
          <a:blip r:embed="rId1"/>
          <a:stretch/>
        </p:blipFill>
        <p:spPr>
          <a:xfrm>
            <a:off x="1411200" y="609480"/>
            <a:ext cx="632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s signal integrator (coordinating centre)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er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 detecte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Figure6"/>
          <p:cNvPicPr/>
          <p:nvPr/>
        </p:nvPicPr>
        <p:blipFill>
          <a:blip r:embed="rId1"/>
          <a:stretch/>
        </p:blipFill>
        <p:spPr>
          <a:xfrm>
            <a:off x="4648320" y="2125800"/>
            <a:ext cx="380988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40:22Z</dcterms:created>
  <dc:creator>rubina khan</dc:creator>
  <dc:description/>
  <dc:language>en-US</dc:language>
  <cp:lastModifiedBy>rubina khan</cp:lastModifiedBy>
  <dcterms:modified xsi:type="dcterms:W3CDTF">2017-04-20T18:21:31Z</dcterms:modified>
  <cp:revision>123</cp:revision>
  <dc:subject/>
  <dc:title>Chapter 7 - Maintaining an Internal Balance</dc:title>
</cp:coreProperties>
</file>